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61723"/>
        <c:axId val="4597826"/>
      </c:barChart>
      <c:catAx>
        <c:axId val="10361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7826"/>
        <c:crosses val="autoZero"/>
        <c:auto val="1"/>
        <c:lblAlgn val="ctr"/>
        <c:lblOffset val="100"/>
        <c:noMultiLvlLbl val="0"/>
      </c:catAx>
      <c:valAx>
        <c:axId val="4597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1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E1E-E659-4322-91FE-75DA9550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BAA-C5C4-4D8F-AA53-2D11E95F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DF4-DD58-446B-AFE9-FD4F4701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4DD-7203-4272-B510-DE68FF37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9AE-5189-4E3E-98D4-38F4E3E9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785-14EA-46D8-BF21-ADC160A8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05B-C871-4A51-91CF-3A2B7893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DEC-825D-417E-88D9-F7970789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066-0095-4BD7-9DC6-375B6AC4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2AC-7397-4E7E-9E78-B4399B1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BA9-34EE-479F-9B73-E2424536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AF3-8560-4214-B805-D7F37799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E70D-D1EE-4EDC-8FF2-E24D519DB0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